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8889-CC7F-428D-A7A9-042ADAB6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C046-2700-4A09-A7B9-0ACF9006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8073-817A-4CE5-BD23-0CF449DE7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F389-084B-4AD4-A2AA-93845E26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6ED8-56F4-4544-8A6C-CBB4DFC6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8C07-BCDB-4314-A5B4-3F5D7D10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62C7-9008-4236-98AA-91E14B4F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DDA5-92F0-41CC-AEB6-70B8DFCC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A5A0-A3F9-4CCB-B987-7F70102E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D9D5-7C65-462E-9F2C-76493474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DA31-E2DD-447A-B6AA-9D704DCB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FFD3-F898-447A-84DC-FAAA7A71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C019-5422-4832-B164-972490AAE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 PICTUR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681360" y="1535040"/>
            <a:ext cx="546264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9:04:17Z</dcterms:created>
  <dc:creator>mriley</dc:creator>
  <dc:description/>
  <dc:language>en-US</dc:language>
  <cp:lastModifiedBy>mriley</cp:lastModifiedBy>
  <dcterms:modified xsi:type="dcterms:W3CDTF">2008-11-11T21:14:06Z</dcterms:modified>
  <cp:revision>9</cp:revision>
  <dc:subject/>
  <dc:title>Slide 1</dc:title>
</cp:coreProperties>
</file>